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552-F304-4CCD-AE71-562E88CA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906-0582-4450-880A-8DF1E66E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ACA-DB85-406A-ADA4-18E00B46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4BA-55DE-4C28-A70C-8B319320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177-558A-4E5D-9643-9D8FAAA0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3B4-54BA-43A4-8CF4-330FF4AC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3CD-527D-41FC-A7D5-A937AED0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3FA-BE67-4C3B-8FF5-146110B4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0C8-3683-4B3C-B364-4940F1D6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A93-6DA5-49F7-8743-D19E9152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ACD-BC93-4DB5-BD02-76C0C63A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E0C-10E0-44F2-84AF-4CA1904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7B476-E869-4429-A8CA-12893258AE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2335F-C058-4806-BBB3-A6DBFEFD1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ptfull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295280" y="302256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295280" y="2590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d can do big things through us if we start by being responsible with little thing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295280" y="287028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4" descr="pptfull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066680" y="2666880"/>
            <a:ext cx="70866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OW TO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rue or false to the following statements about today’s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295280" y="2590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raoh’s dream said seven years of famine would follow seven years of plen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295280" y="2743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95280" y="2590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eph could interpret the dream but had no ideas on how to prepare for fam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95280" y="2743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95280" y="28195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raoh made Joseph second in command of Egyp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295280" y="2743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3. 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295280" y="25891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eph turned away people from other countries and only cared for the Egyptia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7T00:09:29Z</dcterms:created>
  <dc:creator>Melissa Jones</dc:creator>
  <dc:description/>
  <dc:language>en-US</dc:language>
  <cp:lastModifiedBy>Sherilyn Dawson</cp:lastModifiedBy>
  <cp:lastPrinted>2015-09-01T14:22:51Z</cp:lastPrinted>
  <dcterms:modified xsi:type="dcterms:W3CDTF">2015-09-01T14:23:07Z</dcterms:modified>
  <cp:revision>242</cp:revision>
  <dc:subject/>
  <dc:title>Slide 1</dc:title>
</cp:coreProperties>
</file>